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91CC-41FE-4A97-ADFD-5D38C4CC9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8C07-217B-463C-84B0-E7F7B773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2F2E-B3AA-49A8-B745-E4419E0C5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57B9-B33E-4D19-92CB-03801852A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7EBD-621F-4BBC-A739-2AB350CA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98C8-57BC-42BD-ABC5-1918C098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4E0E-A8F5-4167-9DB8-44FEEA32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F4D1-0645-407F-9AC8-7E3DF07D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E430-E7FA-47DC-8804-9AB7BB8A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08F4-2F01-4A8B-96D3-27C5E2F5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5AEE-94CB-4E04-83BB-E6120DBB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5BF6-0D22-42F9-B6A6-CBB5DC3B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ABBFB-439C-47D9-A524-3921E8EC3D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mall Wol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Parker Smi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Recorded Soun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black wolf’s name was D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438280" y="1649520"/>
            <a:ext cx="3786480" cy="3927240"/>
          </a:xfrm>
          <a:prstGeom prst="rect">
            <a:avLst/>
          </a:prstGeom>
          <a:ln w="0">
            <a:noFill/>
          </a:ln>
        </p:spPr>
      </p:pic>
      <p:pic>
        <p:nvPicPr>
          <p:cNvPr id="74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4000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ino asked Dom why he is living alone by himself in a c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2838240" cy="207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5410080" y="1447920"/>
            <a:ext cx="3276720" cy="3398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3"/>
          <a:stretch/>
        </p:blipFill>
        <p:spPr>
          <a:xfrm>
            <a:off x="838080" y="4038480"/>
            <a:ext cx="3429000" cy="2276640"/>
          </a:xfrm>
          <a:prstGeom prst="rect">
            <a:avLst/>
          </a:prstGeom>
          <a:ln w="0">
            <a:noFill/>
          </a:ln>
        </p:spPr>
      </p:pic>
      <p:pic>
        <p:nvPicPr>
          <p:cNvPr id="79" name="Recorded Sound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8000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s Dom told Kino why he lived alone Kino noticed that Dom had a lot of scars and scratch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2919240" y="2147760"/>
            <a:ext cx="3305520" cy="3429000"/>
          </a:xfrm>
          <a:prstGeom prst="rect">
            <a:avLst/>
          </a:prstGeom>
          <a:ln w="0">
            <a:noFill/>
          </a:ln>
        </p:spPr>
      </p:pic>
      <p:pic>
        <p:nvPicPr>
          <p:cNvPr id="82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2000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om told Kino that has been attacked by many hunters and other animals but has always seemed to escape from th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2919240" y="2147760"/>
            <a:ext cx="3305520" cy="3429000"/>
          </a:xfrm>
          <a:prstGeom prst="rect">
            <a:avLst/>
          </a:prstGeom>
          <a:ln w="0">
            <a:noFill/>
          </a:ln>
        </p:spPr>
      </p:pic>
      <p:pic>
        <p:nvPicPr>
          <p:cNvPr id="85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3000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ino lived with Dom for many months after tha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305160" cy="3429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4495680" y="1523880"/>
            <a:ext cx="2838600" cy="2076480"/>
          </a:xfrm>
          <a:prstGeom prst="rect">
            <a:avLst/>
          </a:prstGeom>
          <a:ln w="0">
            <a:noFill/>
          </a:ln>
        </p:spPr>
      </p:pic>
      <p:pic>
        <p:nvPicPr>
          <p:cNvPr id="89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7000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ne day while Dom was out hunting Kino heard many other wolf’s nearb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Content Placeholder 3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838240" cy="2076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3352680" y="1905120"/>
            <a:ext cx="5105520" cy="3747960"/>
          </a:xfrm>
          <a:prstGeom prst="rect">
            <a:avLst/>
          </a:prstGeom>
          <a:ln w="0">
            <a:noFill/>
          </a:ln>
        </p:spPr>
      </p:pic>
      <p:pic>
        <p:nvPicPr>
          <p:cNvPr id="93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90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d with those wolfs was Kino’s mom who was still looking for hi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Content Placeholder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2838600" cy="2076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4264200" y="1828800"/>
            <a:ext cx="3622680" cy="2695680"/>
          </a:xfrm>
          <a:prstGeom prst="rect">
            <a:avLst/>
          </a:prstGeom>
          <a:ln w="0">
            <a:noFill/>
          </a:ln>
        </p:spPr>
      </p:pic>
      <p:pic>
        <p:nvPicPr>
          <p:cNvPr id="97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8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ino ran to his mom and he was very happy she had found hi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2171880" y="2077920"/>
            <a:ext cx="4800600" cy="3571920"/>
          </a:xfrm>
          <a:prstGeom prst="rect">
            <a:avLst/>
          </a:prstGeom>
          <a:ln w="0">
            <a:noFill/>
          </a:ln>
        </p:spPr>
      </p:pic>
      <p:pic>
        <p:nvPicPr>
          <p:cNvPr id="100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9000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 came back and didn’t understand why there were all these wolfs by his hou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3011760" cy="3124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5029200" y="1828800"/>
            <a:ext cx="3886200" cy="2852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3"/>
          <a:stretch/>
        </p:blipFill>
        <p:spPr>
          <a:xfrm>
            <a:off x="2438280" y="4419720"/>
            <a:ext cx="3276720" cy="2174760"/>
          </a:xfrm>
          <a:prstGeom prst="rect">
            <a:avLst/>
          </a:prstGeom>
          <a:ln w="0">
            <a:noFill/>
          </a:ln>
        </p:spPr>
      </p:pic>
      <p:pic>
        <p:nvPicPr>
          <p:cNvPr id="105" name="Recorded Sound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000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saw Kino and his mom and then understo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3305160" cy="3429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3657600" y="1600200"/>
            <a:ext cx="4800600" cy="3571920"/>
          </a:xfrm>
          <a:prstGeom prst="rect">
            <a:avLst/>
          </a:prstGeom>
          <a:ln w="0">
            <a:noFill/>
          </a:ln>
        </p:spPr>
      </p:pic>
      <p:pic>
        <p:nvPicPr>
          <p:cNvPr id="109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6000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4"/>
          <p:cNvSpPr/>
          <p:nvPr/>
        </p:nvSpPr>
        <p:spPr>
          <a:xfrm>
            <a:off x="762120" y="5335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is a small and happy wol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2071800" y="2390760"/>
            <a:ext cx="3919320" cy="2867040"/>
          </a:xfrm>
          <a:prstGeom prst="rect">
            <a:avLst/>
          </a:prstGeom>
          <a:ln w="0">
            <a:noFill/>
          </a:ln>
        </p:spPr>
      </p:pic>
      <p:pic>
        <p:nvPicPr>
          <p:cNvPr id="46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ino said goodbye to Dom and then left to go ho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2838600" cy="2076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6172200" y="1523880"/>
            <a:ext cx="2743200" cy="2846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3"/>
          <a:stretch/>
        </p:blipFill>
        <p:spPr>
          <a:xfrm>
            <a:off x="1905120" y="3429000"/>
            <a:ext cx="4038480" cy="3005280"/>
          </a:xfrm>
          <a:prstGeom prst="rect">
            <a:avLst/>
          </a:prstGeom>
          <a:ln w="0">
            <a:noFill/>
          </a:ln>
        </p:spPr>
      </p:pic>
      <p:pic>
        <p:nvPicPr>
          <p:cNvPr id="114" name="Recorded Sound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7000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little wolf’s name was Ki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2743200" y="2824200"/>
            <a:ext cx="3247920" cy="2376360"/>
          </a:xfrm>
          <a:prstGeom prst="rect">
            <a:avLst/>
          </a:prstGeom>
          <a:ln w="0">
            <a:noFill/>
          </a:ln>
        </p:spPr>
      </p:pic>
      <p:pic>
        <p:nvPicPr>
          <p:cNvPr id="49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00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loved to play with his friends and his m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3541680" cy="2590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4572000" y="2057400"/>
            <a:ext cx="3314880" cy="2467080"/>
          </a:xfrm>
          <a:prstGeom prst="rect">
            <a:avLst/>
          </a:prstGeom>
          <a:ln w="0">
            <a:noFill/>
          </a:ln>
        </p:spPr>
      </p:pic>
      <p:pic>
        <p:nvPicPr>
          <p:cNvPr id="53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00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ne day Kino got lost from his mom when he fell into a riv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2838600" cy="2076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3429000" y="2362320"/>
            <a:ext cx="4280040" cy="3209760"/>
          </a:xfrm>
          <a:prstGeom prst="rect">
            <a:avLst/>
          </a:prstGeom>
          <a:ln w="0">
            <a:noFill/>
          </a:ln>
        </p:spPr>
      </p:pic>
      <p:pic>
        <p:nvPicPr>
          <p:cNvPr id="57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8000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ino looked and looked for his mom but couldn’t find her at all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2133720" y="2079720"/>
            <a:ext cx="4267080" cy="3120840"/>
          </a:xfrm>
          <a:prstGeom prst="rect">
            <a:avLst/>
          </a:prstGeom>
          <a:ln w="0">
            <a:noFill/>
          </a:ln>
        </p:spPr>
      </p:pic>
      <p:pic>
        <p:nvPicPr>
          <p:cNvPr id="60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7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no was lost for many days and couldn’t find anything that looked famili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133720" y="2209680"/>
            <a:ext cx="4721040" cy="3452760"/>
          </a:xfrm>
          <a:prstGeom prst="rect">
            <a:avLst/>
          </a:prstGeom>
          <a:ln w="0">
            <a:noFill/>
          </a:ln>
        </p:spPr>
      </p:pic>
      <p:pic>
        <p:nvPicPr>
          <p:cNvPr id="63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000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Kino found a cave and went into it until a big black wolf appear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2838600" cy="2076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4038480" y="1981080"/>
            <a:ext cx="3990960" cy="4140360"/>
          </a:xfrm>
          <a:prstGeom prst="rect">
            <a:avLst/>
          </a:prstGeom>
          <a:ln w="0">
            <a:noFill/>
          </a:ln>
        </p:spPr>
      </p:pic>
      <p:pic>
        <p:nvPicPr>
          <p:cNvPr id="67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900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ino was scared but at the same time interested in the black wol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5715000" y="1981080"/>
            <a:ext cx="2838600" cy="2076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838080" y="1752480"/>
            <a:ext cx="3990960" cy="4140360"/>
          </a:xfrm>
          <a:prstGeom prst="rect">
            <a:avLst/>
          </a:prstGeom>
          <a:ln w="0">
            <a:noFill/>
          </a:ln>
        </p:spPr>
      </p:pic>
      <p:pic>
        <p:nvPicPr>
          <p:cNvPr id="71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8000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8:15:11Z</dcterms:created>
  <dc:creator>itsuser</dc:creator>
  <dc:description/>
  <dc:language>en-US</dc:language>
  <cp:lastModifiedBy>itsuser</cp:lastModifiedBy>
  <dcterms:modified xsi:type="dcterms:W3CDTF">2009-04-14T16:10:37Z</dcterms:modified>
  <cp:revision>9</cp:revision>
  <dc:subject/>
  <dc:title>The Small Wolf</dc:title>
</cp:coreProperties>
</file>